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4F0A-EDE7-40EE-8187-4D9DB4DC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12DC-9F63-4F37-9F42-B96D428C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2204-C408-47F9-8BBB-13AA3917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9F6A-2C7D-4E0F-A2DF-D1A5F89D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60BD-4EFA-4D44-A3CD-87E053E8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7055-984C-4E1C-B495-485A82BA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FB6D-918E-4E5B-B058-CCC8C7DD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6EEB-EDB7-4E5D-B6B8-1E0E0AAE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61B6-8288-43D3-8046-E480C00D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B7E1-2A75-471B-8D30-50AC958E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00C9-DF6E-4B5C-AE56-70BE7D63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34DB-A579-48A9-A486-6C560C16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43B9-43B9-4821-B459-4B7A5999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D8E7-FAEC-42C3-B01C-3278C6AE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2995-5620-4B26-A0DD-AEBC8049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E71F-84ED-49E4-BF0E-E6E7CEDE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3CCA-152D-4A2D-BF98-9CF8390A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07BF-4742-4467-8722-A4426B63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1A21-43CF-4678-A9D1-7CF21BEC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CE71-B96F-41A2-8DB3-5E409D83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B7C5-CBDE-4A85-93C1-F1295D77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3841-9834-407A-ACF2-EF018F16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3617-00C0-4D65-9CDC-713A707D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CB6D-1CE8-415B-8FC1-597FB262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86F0-9710-420C-B39C-E3B62DCD36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69E7-A5C2-4D33-822C-81AAEBF8B0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Lebano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410080" y="152280"/>
            <a:ext cx="347688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N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terranean 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6477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n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tern Border – Mt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sts – most in SW 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498132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conom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%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ance/ba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i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t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ge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ri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7:20:50Z</dcterms:created>
  <dc:creator>Joe Dirt</dc:creator>
  <dc:description/>
  <dc:language>en-US</dc:language>
  <cp:lastModifiedBy>Joe Dirt</cp:lastModifiedBy>
  <dcterms:modified xsi:type="dcterms:W3CDTF">2007-12-18T18:18:22Z</dcterms:modified>
  <cp:revision>3</cp:revision>
  <dc:subject/>
  <dc:title>Lebanon</dc:title>
</cp:coreProperties>
</file>